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ECF9-9C05-42DE-97EC-39086902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FCE9-BC85-4576-A69F-36251C6B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163-9E67-41DD-9B84-116965371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18F7-76C3-45F1-B312-59EB5238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E5A96-267D-4EA4-835C-D44E35F04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BD80-430B-4202-A04E-941BDF6D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5752-121F-417D-8C08-AD74F162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E0F8-AFF4-4961-A49E-0F344CFB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037F-BEE6-432A-BCCA-C5871467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23DD-E18B-43C1-A0CD-E2294AB9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FA9F-8E19-4BBA-9E7A-CA7AA4F0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5DB6-D462-420C-BA00-4A2CA5D2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D095-EDC3-4F9A-8C43-AF5191C8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1E58-1C7D-49D1-9494-296208DE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D1FF-C3BD-4D33-B68E-62E4338DC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E865E-1932-4F93-A115-A490CBBED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9B58-DF70-4B98-ACE5-D1F7582B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C852-6F38-4928-BB02-BCFE4867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B2BD-47BC-4411-A43B-3A8AB5AF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5A41-9596-4DC1-BEC2-961DBD09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AABC-1C51-4F0B-8AE6-9D19B9A3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B0F9-D903-465A-951E-93FC58DB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CC37-3EA9-4A24-9536-B037FB54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5F07-6F18-49C2-BE6E-1D6F3E47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61e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61e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C9CB-5225-4A61-82AE-7648140DAA2C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46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61e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f261e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6F2E-9F01-4E5F-86CC-EE8D0FF53270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4f261e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4f261e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4674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f261e"/>
                </a:solidFill>
                <a:latin typeface="Garamond"/>
              </a:rPr>
              <a:t>Letter Writing Unit</a:t>
            </a:r>
            <a:endParaRPr b="0" lang="en-US" sz="48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52480" y="34286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Unit Portfolio Presentation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Jolene Porter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61e"/>
                </a:solidFill>
                <a:latin typeface="Garamond"/>
              </a:rPr>
              <a:t>What is a Letter?</a:t>
            </a:r>
            <a:endParaRPr b="0" lang="en-US" sz="40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" name=""/>
          <p:cNvSpPr/>
          <p:nvPr/>
        </p:nvSpPr>
        <p:spPr>
          <a:xfrm>
            <a:off x="3746520" y="1219320"/>
            <a:ext cx="2801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66040" y="1219320"/>
            <a:ext cx="2666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99840" y="1447560"/>
            <a:ext cx="7162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A means for people to communicate via the mail or internet.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What are the parts of a letter?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261e"/>
                </a:solidFill>
                <a:latin typeface="Garamond"/>
              </a:rPr>
              <a:t>Heading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Date the letter is being written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Person’s Name &amp; Title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Company Name 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Address 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City, State Zip Code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261e"/>
                </a:solidFill>
                <a:latin typeface="Garamond"/>
              </a:rPr>
              <a:t>Salutation &amp; Letter Body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Dear – To – Attention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Two paragraphs to explain the reason for writing the letter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261e"/>
                </a:solidFill>
                <a:latin typeface="Garamond"/>
              </a:rPr>
              <a:t>Closing</a:t>
            </a:r>
            <a:br>
              <a:rPr sz="2400"/>
            </a:b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Sincerely – Fondly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4f261e"/>
                </a:solidFill>
                <a:latin typeface="Garamond"/>
              </a:rPr>
              <a:t>Signature of person sending the letter</a:t>
            </a:r>
            <a:endParaRPr b="0" lang="en-US" sz="20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Let’s Get Started….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Open a new Word Documen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Enter to position 2.5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ype in the date line:  Month, Day and Year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162920" y="4724280"/>
            <a:ext cx="179532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37Z</dcterms:created>
  <dc:creator>cbaker1X</dc:creator>
  <dc:description/>
  <dc:language>en-US</dc:language>
  <cp:lastModifiedBy>Eldred Central School</cp:lastModifiedBy>
  <dcterms:modified xsi:type="dcterms:W3CDTF">2010-07-08T14:44:53Z</dcterms:modified>
  <cp:revision>18</cp:revision>
  <dc:subject/>
  <dc:title>Is it possible to conquer the impossibl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ject Phase">
    <vt:lpwstr>Module 2</vt:lpwstr>
  </property>
</Properties>
</file>